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6.png" ContentType="image/png"/>
  <Override PartName="/ppt/media/image22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0C7-3F06-45A2-BE2D-ACD8399A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A60-4159-4F50-A48B-7F428046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A1E-66F4-4EB7-A7BC-27D9CD90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5F5-9B37-4358-A518-D41D5D14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BB79-EF81-4B5A-A9D8-B28436B7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4A34-1CA0-4DAC-86DE-DAB79631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36D9-8151-4525-B3FF-12B1DF2A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7F68-5005-4E57-ADFB-D64C17A4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C4AF-2D8C-4151-80B7-B3327EC4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4CD2-1DFA-4439-B30B-53C97661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2AD3-52CF-43FC-88A5-63AA0F60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3FD5-94DA-49AA-AD2A-14150FC7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06B7-3A95-4C6A-A630-CC1D9CAC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142E-75B7-495A-9614-9B69DC20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F37F-D51F-4FAC-83B3-F4D71896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CAFF-3632-48B4-945B-0CE9FC47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D5C4-302A-49E8-8D84-A86DBEC8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F94-211E-4BBC-8AD4-BAA25E91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D81-1335-4134-8241-4FC5047C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591-F13B-4D11-BB97-CDD54A8D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2F0-CC03-4ABC-A116-B796E8D6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E65-7F62-46E6-B785-A5367FC8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90A-B496-4483-AF62-CF791584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B59-727D-404D-978D-304FC35C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4B76-B6C4-4E58-AAD5-B0107E50055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2612-C49C-467A-8ADF-DB20D3374CC9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33360"/>
            <a:ext cx="8001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ahoma"/>
              </a:rPr>
              <a:t>МОУ Гимназия №4</a:t>
            </a:r>
            <a:br>
              <a:rPr sz="10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800"/>
            </a:br>
            <a:r>
              <a:rPr b="0" lang="en-US" sz="1800" spc="-1" strike="noStrike">
                <a:solidFill>
                  <a:srgbClr val="cc9900"/>
                </a:solidFill>
                <a:latin typeface="Tahoma"/>
              </a:rPr>
              <a:t>Презентация</a:t>
            </a:r>
            <a:br>
              <a:rPr sz="1800"/>
            </a:br>
            <a:r>
              <a:rPr b="0" lang="en-US" sz="1800" spc="-1" strike="noStrike">
                <a:solidFill>
                  <a:srgbClr val="cc9900"/>
                </a:solidFill>
                <a:latin typeface="Tahoma"/>
              </a:rPr>
              <a:t>по ОБЖ</a:t>
            </a:r>
            <a:br>
              <a:rPr sz="1800"/>
            </a:br>
            <a:r>
              <a:rPr b="0" lang="en-US" sz="1800" spc="-1" strike="noStrike">
                <a:solidFill>
                  <a:srgbClr val="cc9900"/>
                </a:solidFill>
                <a:latin typeface="Tahoma"/>
              </a:rPr>
              <a:t>На тему: </a:t>
            </a:r>
            <a:br>
              <a:rPr sz="18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«Современные средства поражения»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3860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ahoma"/>
              </a:rPr>
              <a:t>Преподаватель: Терехов А.О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ahoma"/>
              </a:rPr>
              <a:t>2011 год</a:t>
            </a: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9640" y="40356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Поражающие факторы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                        </a:t>
            </a: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ядерного взрыва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560" y="1915200"/>
            <a:ext cx="210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1) ударная волна</a:t>
            </a: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99280" y="2707200"/>
            <a:ext cx="272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2) световое излучение</a:t>
            </a: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9800" y="321192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99640" y="436464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4)радиоактивное заражение местности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3789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3)Проникающая радиация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2360" y="508392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5) электромагнитный импульс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254560" y="2133720"/>
            <a:ext cx="31352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26920" y="548280"/>
            <a:ext cx="20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Защита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1341000"/>
            <a:ext cx="4319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Основные: укрытие в защитных сооружениях, рассредоточение и эвакуация, применение средств индивидуальной защиты.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1484280"/>
            <a:ext cx="42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Защиту обеспечивают также метрополитены, шахты и различные другие горные выработки, приспособленные подвалы, укрытия (щели), построенные во дворах и других местах, где находятся поблизости люди, транспортные тоннели и подземные пешеходные переходы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429264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Ослабляют поражающее действие ядерного взрыва ямы, канавы, балки, овраги, котлованы, низкие кирпичные и бетонные ограждения, водопропускные трубы под дорогами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2808360" cy="1623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29430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841840" y="619560"/>
            <a:ext cx="360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Уничтожение</a:t>
            </a: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64000" y="3500640"/>
            <a:ext cx="518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3 января 1993 г. США и Россия заключили Договор о сокращении и ограничении стратегических наступательных вооружений (Договор  СНВ2). По этому договору к 2003 г. количество ядерных боеголовок, которыми располагает каждая из сторон, не должно превышать 3000-3500 единиц. Такого количества вполне достаточно для обеспечения национальной безопасности.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48428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В конце 1995 г. в России насчитывалось 5500 ядерных зарядов, из них 60% - в составе ракетных войск, 35% - в военно-морском флоте, 5% - в военно-воздушных силах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2447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360" y="476280"/>
            <a:ext cx="83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Химическое оружие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Историческая справка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1915200"/>
            <a:ext cx="71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Впервые химическое оружие применила Германия во время Первой мировой войны против англо-французских войск.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486900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22 апреля 1915 г. в районе города Ипр (Бельгия) немцы выпустили из баллонов 180 тонн хлора. Специальных средств защиты ещё не было (противогазы изобрели год спустя), и ядовитый газ отравил 15 тыс. человек, треть из них погибли.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3961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770560" y="548280"/>
            <a:ext cx="415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Характеристика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134028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Химическим оружием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называют отравляющие вещества и средства, с помощью которых они применяются на поле боя. Основу поражающего действия химического оружия составляют отравляющие вещества.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2760" y="4219920"/>
            <a:ext cx="7691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9900"/>
                </a:solidFill>
                <a:latin typeface="Times New Roman"/>
              </a:rPr>
              <a:t>Химические боеприпасы различают по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Times New Roman"/>
              </a:rPr>
              <a:t>                                                             </a:t>
            </a:r>
            <a:r>
              <a:rPr b="0" lang="en-US" sz="2000" spc="-1" strike="noStrike">
                <a:solidFill>
                  <a:srgbClr val="cc9900"/>
                </a:solidFill>
                <a:latin typeface="Times New Roman"/>
              </a:rPr>
              <a:t>следующим характеристикам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стойкости применяемого ОВ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характеру физиологического воздействия ОВ на организм человека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быстроте наступающего воздействи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- тактическому назначению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08360" y="2421000"/>
            <a:ext cx="22129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9640" y="61920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По характеру действия на организм человека отравляющие вещества делятся на шесть групп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1403640"/>
            <a:ext cx="70563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нервно-паралитического действия (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VX 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(ви-экс), зарин, зоман)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кожно-нарывного действия (иприт)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общеядовитые (синильная кислота, хлорциан)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удушающие (фосген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раздражающего действия (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CS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(си-эс), адамсит)</a:t>
            </a:r>
            <a:r>
              <a:rPr b="0" lang="ru-RU" sz="4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психохимческого действия (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BZ 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(би-зет), диметиламид лизергиновой кислоты)</a:t>
            </a:r>
            <a:r>
              <a:rPr b="0" lang="ru-RU" sz="4400" spc="-1" strike="noStrike">
                <a:solidFill>
                  <a:srgbClr val="f8f8f8"/>
                </a:solidFill>
                <a:latin typeface="Times New Roman"/>
              </a:rPr>
              <a:t>                                          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427640" y="3860640"/>
            <a:ext cx="29271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94240" y="547920"/>
            <a:ext cx="751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Характеристика основных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отравляющих веществ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2074320"/>
            <a:ext cx="8801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1) зарин - бесцветная или желтого цвета жидкость почти без запаха, что затрудняет обнаружение его по внешним признакам.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2780640"/>
            <a:ext cx="7200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2) 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зоман - бесцветная и почти без запаха жидкость. Относится к классу нервно-паралитических ОВ.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3219480"/>
            <a:ext cx="820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3) V-газы - малолетучие жидкости с очень высокой температурой кипения,                                                                            поэтому стойкость их во много раз больше, чем стойкость зарина.</a:t>
            </a: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4365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4) иприт - маслянистая темно-бурая жидкость с характерным запахом, напоминающим запах чеснока или горчицы.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96040" y="4724280"/>
            <a:ext cx="1407960" cy="1630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093080" y="4718160"/>
            <a:ext cx="165564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39640" y="19234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6) фосген - бесцветная, легколетучая жидкость с запахом прелого сена или гнилых яблок.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835560"/>
            <a:ext cx="72738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5) синильная кислота - бесцветная жидкость со своеобразным запахом, напоминающим запах горького миндаля;</a:t>
            </a: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2852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7) диметиламид лизергиновой кислоты - отравляющее вещество психохимического действия.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796000" y="3716280"/>
            <a:ext cx="1600200" cy="1846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908000" y="3716280"/>
            <a:ext cx="2016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4000" y="548280"/>
            <a:ext cx="20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Защита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148428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Защищают от ОВ противогазы, респираторы, специальная противохимическая одежда. В составе современных армий есть особые войска. В случае радиоактивного, биологического и химического заражения они проводят дезактивацию, дезинфекцию и дегазацию техники, обмундирования, местности и т.д.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2759040" cy="2065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826920" y="3500280"/>
            <a:ext cx="214164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300720" y="3500280"/>
            <a:ext cx="19670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38200" y="548280"/>
            <a:ext cx="36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Уничтожение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1412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В 80-х гг. ХХ века США владели более чем 150 тыс. тонн отравляющих веществ. В СССР к 1995 г. запасы ОВ составляли 40 тыс. тонн.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4508640"/>
            <a:ext cx="48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Первый завод по уничтожению ОВ в нашей стране был построен в городе Чапаевске (Самарская область).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2435400" cy="1744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2800080" cy="20905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651640" y="4508640"/>
            <a:ext cx="23684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Tahoma"/>
              </a:rPr>
              <a:t>Современные средства поражений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Их краткая характеристик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 algn="ctr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Поражающие факторы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910800" y="403560"/>
            <a:ext cx="95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Бактериологическое оружие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                             </a:t>
            </a: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Историческая справка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77912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В 1935-1936 гг. на территории оккупированной Японией Маньчжурии были созданы специальные лаборатории, а позднее научно-исследовательские армейские отряды, которые разрабатывали бактериологические средства поражения и испытывали их на военнослужащих и мирных жителях Китая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3141720"/>
            <a:ext cx="25909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О</a:t>
            </a: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бактериологическом, или биологическом, оружии широкая общественность впервые узнала в декабре 1949 г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5516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После Второй мировой войны биологическое оружие производили в США, Англии, Австралии и Канаде.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35280" y="3286080"/>
            <a:ext cx="28080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74480" y="403560"/>
            <a:ext cx="401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Характеристика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26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Бактериологическое (биологическое) оружие - оружие массового поражения живой силы, сельскохозяйственных животных и посевов, сельскохозяйственных культур.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2952720" cy="1938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851280" y="2852640"/>
            <a:ext cx="2016000" cy="2376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012000" y="3141720"/>
            <a:ext cx="244764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5840" y="475200"/>
            <a:ext cx="614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Бактериальные средства</a:t>
            </a: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6000" y="162792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1) чума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080" y="1915200"/>
            <a:ext cx="123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2) холера</a:t>
            </a: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000" y="2780280"/>
            <a:ext cx="202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3) сибирская язва</a:t>
            </a: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6720" y="3715200"/>
            <a:ext cx="14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4) ботулизм</a:t>
            </a: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492360" y="1341360"/>
            <a:ext cx="1648080" cy="1224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1546200" cy="1152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580000" y="2924280"/>
            <a:ext cx="1513080" cy="1457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3348000" y="4653000"/>
            <a:ext cx="1800360" cy="1392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3132000" y="2997360"/>
            <a:ext cx="2068560" cy="1420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5580000" y="4676760"/>
            <a:ext cx="2016360" cy="1403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971640" y="4581360"/>
            <a:ext cx="1728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25480" y="619560"/>
            <a:ext cx="288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Поражения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14126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При поражении бактериальными средствами заболевание наступает не сразу, почти всегда имеется скрытый (инкубационный) период, в течение которого заболевание не проявляет себя внешними признаками, а пораженный не теряет боеспособности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1833840" cy="1511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1644840" cy="1729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940360" y="3213000"/>
            <a:ext cx="2552760" cy="19144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2987640" y="3429000"/>
            <a:ext cx="25066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11280" y="619560"/>
            <a:ext cx="193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Защита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178812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От заражения бактериальными средствами защищают убежища. Защиту органов дыхание и зрение, а также кожных покровов лица от бактериального аэрозоля обеспечивает противогаз. При отсутствии противогаза используются респираторы, ватно-марлевые повязки, противопыльные маски, а также подручные средства защиты: платок, полотенце, шарф, полы одежды и др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187280" y="3716280"/>
            <a:ext cx="2953080" cy="244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364000" y="3716280"/>
            <a:ext cx="3235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92280" y="475200"/>
            <a:ext cx="34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Уничтожение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1005840"/>
            <a:ext cx="71294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В 1971 г. Генеральная ассамблея ООН одобрила конвенцию о запрещении разработки, производства и накопления запасов  бактериологического и токсического оружия и об их уничтожении. Участниками конвенции (1985 г.) являются 101 государство.</a:t>
            </a: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                              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258920" y="2997360"/>
            <a:ext cx="2076480" cy="2076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219640" y="3068640"/>
            <a:ext cx="2619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06960" y="333000"/>
            <a:ext cx="564264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Зажигательное оружие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133308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Важное место в системе обычных вооружений  принадлежит  зажигательному оружию, которое представляет собой комплекс средств поражения, основанных на использовании зажигательных веществ 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360" y="522900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Основу  современного  зажигательного  оружия составляют  зажигательные вещества, которыми  снаряжаются  зажигательные  боеприпасы и огнеметные средства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00000" y="2743200"/>
            <a:ext cx="2519640" cy="19098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427640" y="2741760"/>
            <a:ext cx="259236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00000" y="403560"/>
            <a:ext cx="74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imes New Roman"/>
              </a:rPr>
              <a:t>Новые виды оружия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imes New Roman"/>
              </a:rPr>
              <a:t>           </a:t>
            </a:r>
            <a:r>
              <a:rPr b="1" lang="en-US" sz="4400" spc="-1" strike="noStrike">
                <a:solidFill>
                  <a:srgbClr val="cc9900"/>
                </a:solidFill>
                <a:latin typeface="Times New Roman"/>
              </a:rPr>
              <a:t>массового поражения</a:t>
            </a: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9080" y="2130840"/>
            <a:ext cx="40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Лучевое оружие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Лазеры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Радиочастотным оружие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Инфразвуковым оружие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Радиологическое оружие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Геофизическое оружие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5508720" y="3933720"/>
            <a:ext cx="295272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9900"/>
                </a:solidFill>
                <a:latin typeface="Tahoma"/>
              </a:rPr>
              <a:t>Конец</a:t>
            </a:r>
            <a:endParaRPr b="0" lang="en-US" sz="8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682560" y="982440"/>
            <a:ext cx="7672320" cy="4320360"/>
            <a:chOff x="682560" y="982440"/>
            <a:chExt cx="7672320" cy="4320360"/>
          </a:xfrm>
        </p:grpSpPr>
        <p:cxnSp>
          <p:nvCxnSpPr>
            <p:cNvPr id="114" name="_s18477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5527080" y="1879920"/>
              <a:ext cx="578520" cy="2662560"/>
            </a:xfrm>
            <a:prstGeom prst="bentConnector3">
              <a:avLst>
                <a:gd name="adj1" fmla="val 19738"/>
              </a:avLst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17" name="_s18476"/>
            <p:cNvCxnSpPr>
              <a:stCxn id="118" idx="0"/>
              <a:endCxn id="116" idx="2"/>
            </p:cNvCxnSpPr>
            <p:nvPr/>
          </p:nvCxnSpPr>
          <p:spPr>
            <a:xfrm flipV="1">
              <a:off x="4485240" y="2922120"/>
              <a:ext cx="3240" cy="57852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19" name="_s18475"/>
            <p:cNvCxnSpPr>
              <a:stCxn id="120" idx="0"/>
              <a:endCxn id="116" idx="2"/>
            </p:cNvCxnSpPr>
            <p:nvPr/>
          </p:nvCxnSpPr>
          <p:spPr>
            <a:xfrm flipH="1" flipV="1" rot="5400000">
              <a:off x="2899080" y="1914840"/>
              <a:ext cx="578520" cy="2593440"/>
            </a:xfrm>
            <a:prstGeom prst="bentConnector3">
              <a:avLst>
                <a:gd name="adj1" fmla="val 19738"/>
              </a:avLst>
            </a:prstGeom>
            <a:ln w="28440">
              <a:solidFill>
                <a:srgbClr val="f8f8f8"/>
              </a:solidFill>
              <a:miter/>
            </a:ln>
          </p:spPr>
        </p:cxnSp>
        <p:sp>
          <p:nvSpPr>
            <p:cNvPr id="116" name="_s18471"/>
            <p:cNvSpPr/>
            <p:nvPr/>
          </p:nvSpPr>
          <p:spPr>
            <a:xfrm>
              <a:off x="3275640" y="982440"/>
              <a:ext cx="2419200" cy="19400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Times New Roman"/>
                </a:rPr>
                <a:t>Средства </a:t>
              </a:r>
              <a:endParaRPr b="0" lang="en-US" sz="21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Times New Roman"/>
                </a:rPr>
                <a:t>Поражений</a:t>
              </a:r>
              <a:endParaRPr b="0" lang="en-US" sz="21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0" name="_s18472"/>
            <p:cNvSpPr/>
            <p:nvPr/>
          </p:nvSpPr>
          <p:spPr>
            <a:xfrm>
              <a:off x="682560" y="3500640"/>
              <a:ext cx="2419200" cy="180216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Times New Roman"/>
                </a:rPr>
                <a:t>Ядерное оружие</a:t>
              </a:r>
              <a:endParaRPr b="0" lang="en-US" sz="21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8" name="_s18473"/>
            <p:cNvSpPr/>
            <p:nvPr/>
          </p:nvSpPr>
          <p:spPr>
            <a:xfrm>
              <a:off x="3275640" y="3500640"/>
              <a:ext cx="2419200" cy="180216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Times New Roman"/>
                </a:rPr>
                <a:t>Химическое оружие</a:t>
              </a:r>
              <a:endParaRPr b="0" lang="en-US" sz="21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5" name="_s18474"/>
            <p:cNvSpPr/>
            <p:nvPr/>
          </p:nvSpPr>
          <p:spPr>
            <a:xfrm>
              <a:off x="5941440" y="3500640"/>
              <a:ext cx="2413440" cy="180216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Times New Roman"/>
                </a:rPr>
                <a:t>Бактериологическое</a:t>
              </a:r>
              <a:endParaRPr b="0" lang="en-US" sz="21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Times New Roman"/>
                </a:rPr>
                <a:t>оружие</a:t>
              </a:r>
              <a:endParaRPr b="0" lang="en-US" sz="21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Ядерное оружие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ahoma"/>
              </a:rPr>
              <a:t>          Историческая справ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378936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5 августа 1945 г. на японский город Хиросиму была  сброшена бомба необычайной разрушительной силы.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844640"/>
            <a:ext cx="489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Первую атомную бомбу приготовили в США к середине 1945 г.; Работы по созданию бомбы возглавлял Роберт Оппенгеймер (1904-1967 гг.)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4941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Первая Советская атомная бомба была взорвана в 1949 году близ города Семипалатинска (Казахстан).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508720" y="1773360"/>
            <a:ext cx="250488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932360" y="4581360"/>
            <a:ext cx="292752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826920" y="3284640"/>
            <a:ext cx="3240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125360"/>
            <a:ext cx="73422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В 1953 г. в СССР прошли испытания водородной, или термоядерной, бомбы. Мощность нового оружия в 20 раз превышала мощность бомбы, сброшенной на Хиросиму, хотя размерами они были одинаковыми.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653000"/>
            <a:ext cx="54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В Советском Союзе ядерным оружием занималась группа ученых под руководством Игоря Васильевича Курчатова (1902 или 1903-1960 гг.)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2240" y="260280"/>
            <a:ext cx="689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Ядерное оружие</a:t>
            </a:r>
            <a:br>
              <a:rPr sz="4400"/>
            </a:b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          Историческая справка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4724280"/>
            <a:ext cx="2682720" cy="1301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716360" y="2970360"/>
            <a:ext cx="3168720" cy="1627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826920" y="2924280"/>
            <a:ext cx="35290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Ядерное оружие: Испытания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058360"/>
            <a:ext cx="781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Под Семипалатинском за 1949-1962 гг. осуществили 124 наземных, атмосферных и подземных взрыва. 30 октября 1961 г.: в тот день взорвали водородную бомбу мощностью         58 Мт.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134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Страны, обладающие ядерным оружием, испытывали его на специальных полигонах, удаленных от густонаселенных районов: бывший СССР - под Семипалатинском и на острове Новая Земля;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3789360"/>
            <a:ext cx="70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22920" y="2708280"/>
            <a:ext cx="43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Ядерный полигон на Новой Земле создали в 1954 г. Именно здесь проходило большинство (94% по мощности) ядерных испытаний СССР. Самый страшный удар атмосфера планеты получила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1767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55640" y="54936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Характеристика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90684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Ядерное оружие - самое мощное средство массового поражения.</a:t>
            </a: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191628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Times New Roman"/>
              </a:rPr>
              <a:t>Виды ядерных зарядов: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8f8f8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Атомные заряды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2) Термоядерные заряды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3) Нейтронные заряд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4) «Чистый» заряд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99120" y="3822480"/>
            <a:ext cx="446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Times New Roman"/>
              </a:rPr>
              <a:t>Основными элементами ядерных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Times New Roman"/>
              </a:rPr>
              <a:t>боеприпасов являются: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8f8f8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Корпус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2) система автоматики: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-система предохранения и взведения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-система аварийного подрыв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-система подрыва заряд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-источник питания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-систему датчиков подрыв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716360" y="1638360"/>
            <a:ext cx="2951280" cy="2044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32940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2600" y="548280"/>
            <a:ext cx="819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Мощность ядерных боеприпасов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8160" y="1697760"/>
            <a:ext cx="429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1) сверхмалый (менее 1 кт)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) малый (от 1 до 10 кт)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3) средний (от 10 до 100 кт)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4) крупный (от 100 кт до 1 Мт)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5) сверхкрупный (свыше 1 Мт)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2377800" cy="1784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300720" y="4132440"/>
            <a:ext cx="2087640" cy="1817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971640" y="4154400"/>
            <a:ext cx="2376360" cy="1776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708360" y="4164120"/>
            <a:ext cx="20923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52480" y="619560"/>
            <a:ext cx="577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Виды ядерных взрывов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59960" y="1914480"/>
            <a:ext cx="47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1) воздушный (высокий и низкий)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) наземный (надводный)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3) подземный (подводный)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644480" cy="1644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1871640" cy="1763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843280" y="3213000"/>
            <a:ext cx="35290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0:24:50Z</dcterms:created>
  <dc:creator>Дом</dc:creator>
  <dc:description/>
  <dc:language>en-US</dc:language>
  <cp:lastModifiedBy>учитель</cp:lastModifiedBy>
  <dcterms:modified xsi:type="dcterms:W3CDTF">2013-10-11T06:20:34Z</dcterms:modified>
  <cp:revision>13</cp:revision>
  <dc:subject/>
  <dc:title>Слайд 1</dc:title>
</cp:coreProperties>
</file>