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2D7-C1A8-4844-89E1-FA0A351B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CA6-FE41-45B8-A7A2-5316F0AF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DFF-8A4A-4D62-98D1-CA661D4E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DC9-6A03-4C17-B0AC-CEDEC918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E0D1-85F0-4A7C-9B12-F8611206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1FC8-58BC-44CF-B2B4-23DFBA29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395F-365E-4EC2-B09D-38E402CE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F546-B36F-45AA-8FCB-477FC556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BA0D-23FC-4AC0-8D17-58DBE733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3E59-8F98-4153-8607-72248A66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D268-4D52-4F3C-B39B-F7B17EFF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7D1-3717-47A5-9F20-1DB968B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1053-B087-4F3E-BC08-A66425F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E248-D561-474C-BBA4-FD09135F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2D84-EB29-4D00-A360-9A5726B7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F262-8F4C-48CE-8B8F-82BE8304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819E-7371-4A37-B35B-220456DE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64DE-CD12-4088-8B33-74109130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43F0-A7E7-4F5F-86D7-6CBF42ED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7788-9883-4496-98CF-98AC3A19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0491-7533-4877-833F-9A4161ED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83C1-4D1C-4141-B565-A1887A2B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972-25E5-4B2A-BEDE-7F016639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21E5-26C5-45EC-8FEE-9A948D7E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806B-480A-48BD-9F1E-F3C7B8D5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B9F38-DBC4-452E-873A-5E724EA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C1A3-0673-4348-AB1E-299EB1E5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AC50F-8EE8-40AE-A012-6F59BE3A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92FE-4DFF-4CB4-A2DF-24A925A6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C27E5-C5D3-4E8F-BC59-22D97570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7F7-3724-4BBF-8DE9-92CD186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657-E7B0-4A66-B84E-CE8C4019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AC2-4100-44D6-88EA-F0EFE945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156-D6C6-4A5F-B716-277BDE44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990-A775-47C7-B45B-FD181238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373-21DF-4013-B59D-DF0D347E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B867-AC89-4806-AF3D-5F9A7825EF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D847-2E08-493D-9322-A1B716E685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7DCD-7925-459B-9833-D9C41224F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Презентация по ОБЖ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грады ВС России за воинские отличия и за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099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Кутуз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747800"/>
            <a:ext cx="3251160" cy="3409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64000" y="1197000"/>
            <a:ext cx="5256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Кутузова I степени изготавливается из золота и представляет собой изображение выпуклой пятиконечной звезды, поверхность которой выполнена в виде расходящихся лучей. Середина звезды представляет собой круг, покрытый белой эмалью с золотым лавро-дубовым венком по окружности, перевитым внизу красной эмалевой лентой. В центре круга золотое рельефное изображение Кутузова на фоне серебряной кремлевской башни, увенчанной пятиконечной звездочкой, покрытой рубиново-красной эмалью. Вокруг изображения Кутузова, на белой эмалевой ленте, надпись «МИХАИЛ КУТУЗОВ». Ободки ленты и надпись золотые. Промежутки между концами золотой звезды покрыты пятью пучками серебряных лучей, выходящих из под белой эмалевой ленты. Лучи выполнены из сереб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Кутузова награждаются командиры Красной Армии за хорошо разработанный и проведённый план операции — фронтовой, армейской или отдельного соединения, в результате чего противнику нанесено тяжелое поражение, а наши войска сохранили свою боеспособ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Александра Не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рденом Александра Невского награждаются командиры Красной Армии, проявившие в боях за Родину в Отечественной войне личную отвагу, мужество и храбрость и умелым командованием обеспечивающие успешные действия своих частей. За подвиги и заслуги в период Великой Отечественной войны орденом было награждено более 40 тыс. челове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рден сохранён в системе наград Российской Федер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762440" y="1854360"/>
            <a:ext cx="3810240" cy="401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7102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Богдана Хмельниц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2880" y="2351160"/>
            <a:ext cx="3036960" cy="30924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3528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ом награждаются командиры и бойцы Красной Армии и Военно-Морского Флота, руководители партизанских отрядов и партизаны, проявившие особую решительность и умение в операциях по разгрому врага, высокий патриотизм, мужество и самоотверженность в борьбе за освобождение советской земли от немецких захватч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Богдана Хмельницкого — последний из учреждённых советских «сухопутных» полководческих орденов во время Великой Отечественной войны. Это единственный советский полководческий орден, одной из степеней которого могли награждаться рядовые, а также партиз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9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«Побе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«Победа» представляет собой выпуклую пятиконечную рубиновую звезду, окаймлённую бриллиантами. В промежутках между концами звезды расходящиеся лучи, усеянные бриллиантами. Середина звезды представляет собой круг, покрытый голубой эмалью, окаймлённый лаврово-дубовым венком. В центре круга золотое изображение кремлёвской стены с мавзолеем Ленина и Спасской башней в центре. Над изображением надпись белыми эмалевыми буквами «СССР». В нижней части круга на красной эмалевой ленточке надпись белыми эмалевыми буквами «ПОБЕ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«Победа» является высшим военным орденом. Им награждаются лица высшего командного состава Красной Армии за успешное проведение таких боевых операций в масштабе одного или нескольких фронтов, в результате которых в корне меняется обстановка в пользу Красной Арм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084720" y="1924200"/>
            <a:ext cx="2578320" cy="2565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С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87280" y="1600200"/>
            <a:ext cx="5699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Славы представляет собой пятиконечную звезду. Поверхность лучей звезды слегка выпуклая. На лицевой стороне в средней части звезды — круг-медальон с рельефным изображением Кремля со Спасской башней в центре. По окружности медальона — лавровый венок. В нижней части круга выпуклая надпись «СЛАВА» на красной эмалевой ленточ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боротной стороне ордена — круг с рельефной надписью в середине «СССР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раю звезды и круга на лицевой стороне — выпуклые бор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Славы награждаются лица рядового и сержантского состава Красной Армии, а в авиации и лица, имеющие звание младшего лейтенанта, проявившие в боях за Советскую Родину славные подвиги храбрости, мужества и бесстраш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2533680" cy="5183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9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Уша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ская флотская награда времён Великой Отечественной войны. Орден сохранён в наградной системе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ом Ушакова награждаются офицеры Военно-Морского Флота за выдающиеся успехи в разработке, проведении и обеспечении морских активных операций, в результате чего в боях за Родину была достигнута победа над численно превосходящим вра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1909800"/>
            <a:ext cx="4038480" cy="390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98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98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9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Нахим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40640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ская флотская награда времён Великой Отечественной войны. Орден сохранён в наградной системе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ом Нахимова награждаются офицеры Военно-Морского Флота за выдающиеся успехи в разработке, проведении и обеспечении морских операций, в результате которых была отражена наступательная операция противника или обеспечены активные операции флота, нанесен противнику значительный урон и сохранены свои основны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98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«Мать-герои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ть-героиня» — почётное звание, присваиваемое многодетным матерям и название одноименного ордена в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«Положению о звании „Мать-героиня“», оно присваивается с одновременным награждением орденом, матерям родившим и воспитавшим 10 и более детей, по достижении последним ребёнком возраста 1 года и при наличии в живых остальных детей этой мат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591160" y="2075040"/>
            <a:ext cx="2152800" cy="357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9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98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98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98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«Материнская сла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24000" y="2616120"/>
            <a:ext cx="4392360" cy="25434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356000" y="1341000"/>
            <a:ext cx="4330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«Материнская слава» I степени изготовляется из серебра и представляет собой выпуклый овал. В верхней части ордена развевающееся знамя, покрытое рубиново-красной эмалью, с надписью на нём «Материнская слава» и цифрой, показывающей степень ордена. Под знаменем — щиток, покрытый белой эмалью, с надписью «СССР». В верхней части щитка — красная эмалевая звёздочка. На нижнюю часть щитка наложены оксидированные серп и молот. В левой части ордена — оксидированная фигура матери с ребёнком на руках. Фигура прикрыта внизу розами. Нижняя половина ордена окаймлена позолоченными листьями. Надписи на ордене позолоч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«Материнская слава» награждаются матери, родившие и воспитавшие семь, восемь и девять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9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ден Октябрьск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5400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Октябрьской Революции изготовляется из серебра и представляет собой позолоченную, покрытую красной эмалью пятиконечную звезду на фоне серебряного лучистого пятиуг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ерхней части пятиконечной змалевой звезды изображено знамя, покрытое красной эмалью, с надписью в две строки: «Октябрьская Революц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центре звезды расположен серебряный пятиугольник с изображением крейсера «Аврора». Пятиугольник оксидирован разными то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ижней части ордена помещены накладные серп и молот из зо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знаменование 50-летия Великой Октябрьской социалистической революции учрежден Орден Октябрьской Революции. Орденом Октябрьской Революции награждаются граждане СССР, предприятия, учреждения, организации и другие коллективы трудящихся, воинские части и соединения, а также республики, края, области и города. Данным орденом могут награждаться и иностранные граждане. Орденом награжд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226200" y="1557360"/>
            <a:ext cx="2469960" cy="496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98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98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98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98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98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98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9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718080" cy="41367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ргиевский кр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067280" y="1196640"/>
            <a:ext cx="507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нак отличия представляет собой прямой равноконечный крест с расширяющимися концами из серебра с позолотой (для 1 и 2 степеней) и без позолоты (для 3 и 4 степеней). В центре креста — круглый медальон. По краям креста и вокруг медальона — узкий выпуклый рант. На лицевой стороне медальона — рельефное изображение Святого Георгия, обращенного в правую сторону и поражающего копьем змея. На оборотной стороне медальона — рельефный вензель ордена Святого Георгия из переплетенных букв «СГ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оборотной стороне креста, на его поперечных концах, нанесен порядковый номер. На нижнем конце креста — надписи: «1-я степ.» или «2-я степ.» или «3-я степ.» или «4-я степ.» Расстояние между концами креста — 34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сится на пятиугольной колодке, обтянутой шелковой, муаровой лентой. Для крестов 1 и 3 степеней на колодке помещается бант цветов ордена Святого Геор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Дружбы наро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2266920" cy="2519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84360" y="1413000"/>
            <a:ext cx="64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Дружбы народов изготовляется из серебра и представляет собой слегка выпуклую позолоченную, покрытую темно-красной змалью пятиконечную звезду, обрамленную серебристыми пирамидальными гранями и пятью пучками расходящихся золотистых лу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центре звезды помещен накладной позолоченный Государственный герб СССР, отдельные детали которого покрыты цветной эмалью. Герб окаймлен накладным ободком с изображением рукопожатий, в нижней части ободка находится накладная позолоченная, покрытая темно-красной эмалью лента с надписью «СССР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у Государственным гербом СССР и ободком на фоне белой эмали в верхней части расположена надпись «Дружба народов», в нижней и средней — лавровые ветви, покрытые зеленой эмал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знаменование 50-летия образования Союза Советских Социалистических Республик учрежден орден Дружбы народов для награждения за большие заслуги в укрепления дружбы и братского сотрудничества социалистических наций и народностей, за значительный вклад в экономическое, социально-политическое и культурное развитие Союза ССР и союзных республ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000"/>
                            </p:stCondLst>
                            <p:childTnLst>
                              <p:par>
                                <p:cTn id="6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Трудовой Сла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67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ден Трудовой Славы I степени представляет собой слегка выпуклый позолоченный многоугольник. Многоугольник обрамлен в верхней части пятью пучками расходящихся золотистых лучей, а в нижней — венком из трёх рядов колосьев пшеницы. Колосья перевиты красной эмалевой лентой с надписью «СССР». Колосья пшеницы, надпись «СССР» и контуры ленты позолоч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центральной части ордена на фоне расходящихся лучей, покрытых красной эмалью, расположены рельефное оксидированное изображение доменной печи и строящейся гидроэлектростанции и накладные позолоченные серп и мол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альная часть ордена окаймлена изображением шестерни с позолоченной надписью по окружности «ТРУДОВАЯ СЛАВ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деном награждаются рабочие и мастера промышленности, транспорта, строительства и других отраслей материального производства, колхозники и работники сельского хозяйства, а также работники непроизводственной сферы за самоотверженный и высокопроизводительный долголетний труд на одном предприятии, в учреждении, организации, колхозе или совхозе. Также награждаются учителя (преподаватели), воспитатели, мастера производственного обучения за успехи в обучении и воспитании детей и подростков, подготовке их к жизни и труду и долголетнюю работу в одном учебно-воспитательном учрежд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950160" y="1625760"/>
            <a:ext cx="1614240" cy="324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9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98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898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98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898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98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ден «За службу Родине в Вооружённых Силах ССС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71600" y="2567160"/>
            <a:ext cx="2276280" cy="23763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85840" y="1600200"/>
            <a:ext cx="57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I степени представляет собой две скрещённых четырёхконечных звезды. Верхняя звезда ордена выполнена из позолоченного серебра и составлена из расходящихся лучей. В её центре — позолоченная пятиконечная звезда в серебряном дубовом венке на голубом фоне, окружённая белой эмалевой лентой с надписью золотыми буквами: «За службу Родине в ВС СССР» и изображением серпа и молота; края ленты позолочены. Звезда и лента наложены на выпуклые якорь и крылья из оксидированного серебра. Нижняя четырехконечная звезда ордена покрыта голубой эмалью, края звезды позолочены. На звезду наложены выпуклые перекрещенные изображения ракет из оксидированного серебра, их головные и хвостовые отсеки позолоч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«За службу Родине в Вооружённых Силах СССР» награждаются военнослужащие Советской Армии, Военно-Морского Флота, пограничных и внутренних войс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9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440400" y="1989000"/>
            <a:ext cx="1982880" cy="41767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«За личное муж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6264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«За личное мужество» представляет собой слегка выпуклую пятиконечную звезду, поверхность которой выполнена в виде расходящихся лучей. В промежутках между тупыми углами звезды расположены с левой стороны дубовая, а с правой — лавровая ветви, соединенные вни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центре звезды изображен щит, середина которого имеет слегка выпуклую овальную форму, обрамленную ободком. В верхней части щита расположена пятиконечная звездочка с серпом и молотом. Под ней находится рельефная надпись «ЗА ЛИЧНОЕ МУЖЕСТВО». В нижней части щита рельефная лента с надписью «СССР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чистая пятиконечная звезда, серп и молот и надписи позолочены. Звездочка и лента покрыты рубиново-красной эмалью и окаймлены позолоченными ободками. Края щита покрыты белой эмалью, внутренний и внешний ободки позолочены. Дубовая, лавровая ветви и середина щита оксидиров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«За личное мужество» учрежден для награждения граждан СССР за мужество и отвагу, проявленные при спасении людей, охране общественного порядка и социалистической собственности, в борьбе с преступностью, стихийными бедствиями и при других чрезвычайных обстоятельств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000"/>
                            </p:stCondLst>
                            <p:childTnLst>
                              <p:par>
                                <p:cTn id="7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9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24400" y="1600200"/>
            <a:ext cx="426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имеет знак, звезду, орденскую цепь и орденскую ле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является высшей государственной наградой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ом Святого апостола Андрея Первозванного награждаются выдающиеся государственные и общественные деятели и другие граждане Российской Федерации за исключительные заслуги, способствующие процветанию, величию и славе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57200" y="1841400"/>
            <a:ext cx="4038480" cy="404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98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Святого Георгия I и II степени имеет знак и звезду, III и IV степени — только знак. Лента ордена шелковая, муаровая, из чередующихся равношироких трех чёрных и двух оранжевых п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Святого Георгия является высшей военной наградой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Святого Георгия награждаются военнослужащие из числа старших и высших офицеров за проведение боевых операций по защите Отечества при нападении внешнего противника, завершившихся полным разгромом врага, ставших образцом военного искусства, подвиги которых служат примером доблести и отваги для всех поколений защитников Отечества и которые награждены государственными наградами Российской Федерации за отличия, проявленные в боевых дейст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580000" y="1989000"/>
            <a:ext cx="3395880" cy="339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98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98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98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000"/>
                            </p:stCondLst>
                            <p:childTnLst>
                              <p:par>
                                <p:cTn id="8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98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4000"/>
                            </p:stCondLst>
                            <p:childTnLst>
                              <p:par>
                                <p:cTn id="8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9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ден «За заслуги перед Отечество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89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«За заслуги перед Отечеством» I и II степени имеет знак и звезду, III и IV степени — только знак. Лента ордена шёлковая, муаровая, красного ц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везда ордена серебряная, восьмиконечная, с гранеными, полированными лучами. В центре звезды — круглый серебряный медальон с рельефным позолоченным изображением Государственного герба Российской Федерации. По окружности медальона, на красном эмалевом поле с серебряной окантовкой, — девиз ордена: «Польза, честь и слава» и лавровые вет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«За заслуги перед Отечеством» награждаются граждане за особо выдающиеся заслуги перед государством, связанные с развитием российской государственности, достижениями в труде, укреплением мира, дружбы и сотрудничества между народами, за значительный вклад в дело защиты Оте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3819600" cy="388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50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3500"/>
                            </p:stCondLst>
                            <p:childTnLst>
                              <p:par>
                                <p:cTn id="8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898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2891160" cy="28908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Жу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181440" y="2923920"/>
            <a:ext cx="6410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Жукова награждают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ующие фронтами и армиями, их заместители, начальники штабов, начальники оперативных управлений и оперативных отделов, начальники родов войск фронтов и армий, командиры корпусов, дивизий, бригад, удостоенные звания Героя Советского Союза или награжденные орденами за отличия в руководстве войсками при проведении боевых операций в период Великой Отечественной войны 1941—1945годов; командующие флотами, флотилиями и их заместители, командиры эскадр, военно-морских баз, бригад, удостоенные звания Героя Советского Союза или награжденные орденами за проведение совместно с Красной Армией боевых операций в период Великой Отечественной войны 1941—1945 годов; лица высшего офицерского состава, а также старшие офицеры в должности командира дивизии (бригады) и выше Вооруженных Сил Российской Федерации за заслуги в разработке и успешном проведении ими крупных операций в период военных действий по защите Оте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8000" y="836640"/>
            <a:ext cx="8856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Жукова представляет собой четырехугольное с овальными сторонами серебряное основание с рельефными штралами и четырьмя щитами, выступающими за основание и размещенными на нем в виде равноконечного креста. Щиты серебряные с золочением, покрыты рубиновой эмал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центральной части ордена расположен серебряный с золочением медальон, покрытый голубой эмалью. В верхней части медальона по окружности — золоченая надпись «Георгий Жуков». На медальоне — серебряное с золочением погрудное рельефное изображение Жукова, ограниченное внизу лавровой и дубовой ветв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98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98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000"/>
                            </p:stCondLst>
                            <p:childTnLst>
                              <p:par>
                                <p:cTn id="8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98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Муж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916360" y="1557360"/>
            <a:ext cx="57657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ордена Мужества из серебра. Он представляет собой равноконечный крест с закруглёнными концами, рельефным бортиком по краю и рельефными лучами. В центре — рельефное изображение Государственного герба Российской Федерации. На оборотной стороне, по горизонтали, — рельефная надпись: «Муже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ом Мужества награждаются граждане за самоотверженность, мужество и отвагу, проявленные при спасении людей, охране общественного порядка, в борьбе с преступностью, во время стихийных бедствий, пожаров, катастроф и других чрезвычайных обстоятельств, а также за смелые и решительные действия, совершенные при исполнении воинского, гражданского или служебного долга в условиях, сопряжённых с риском для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601720" cy="511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898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«За военные заслуг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680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«За военные заслуги» из серебра с эмалью. Он представляет собой восьмиконечную звезду, диагональные лучи которой образуют пятиугольники, покрытые эмалью цветов Государственного флага Российской Федерации. На центральном медальоне, по кругу, — венок из дубовых и лавровых ветвей и рельефная надпись: «За военные заслуги». В центре медальона — рельефное изображение Государственного герб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«За военные заслуги» награждаются военнослужащ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образцовое исполнение воинского долга военнослужащими подчиненных подразделений, частей, соединений, безупречное выполнение ими служебных обязанностей и достижение высокой боевой выуч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ысокую боевую готовность войск и обеспечение обороноспособности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ысокие личные показатели в служебной деятельности, храбрость и отвагу, проявленные при исполнении воинского дол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заслуги в укреплении боевого содружества и военного сотрудничества с дружественными государст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732720" y="1413000"/>
            <a:ext cx="2265120" cy="458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9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98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898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000"/>
                            </p:stCondLst>
                            <p:childTnLst>
                              <p:par>
                                <p:cTn id="9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98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000"/>
                            </p:stCondLst>
                            <p:childTnLst>
                              <p:par>
                                <p:cTn id="9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98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98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6000"/>
                            </p:stCondLst>
                            <p:childTnLst>
                              <p:par>
                                <p:cTn id="9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898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7000"/>
                            </p:stCondLst>
                            <p:childTnLst>
                              <p:par>
                                <p:cTn id="9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98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Красного Зна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762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из советских орденов. Был учреждён для награждения за особую храбрость, самоотверженность и мужество, проявленные при защите социалист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центре ордена помещён круглый знак, покрытый белой эмалью, на котором изображены золотые серп и молот, обрамлённый золотым лавровым венком. Под круглым знаком помещена перевёрнутая красная звезда, под которой перекрещиваются молот, плуг, штык и красное знамя с надписью: «Пролетарии всех стран, соединяйтесь!». Снаружи орден обвит золотым лавровым венком, на которых помещена красная лента с надписью «СССР». Орден Красного Знамени изготовляется из сереб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тличия присуждается всем гражданам РСФСР, проявившим особую храбрость и мужество при непосредственной боев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379680" cy="389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«За морские заслуг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23680" y="1600200"/>
            <a:ext cx="606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ордена «За морские заслуги» из серебра с эмалью. Он представляет собой четырехконечный крест с усеченными лучеобразными краями и накладными перекрещивающимися морскими якорями. На центральном медальоне, по кругу на голубой эмали, — венок из лавровых ветвей и надпись: «За морские заслуги». В центре медальона — рельефное изображение Государственного герб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ом «За морские заслуги» награждаются граждане за заслуги в области изучения, освоения и использования Мирового океана в интересах обороноспособности страны, обеспечения ее национальной безопасности, социально-экономического и культурного развития, а также за большой вклад в укрепление морского потенциал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220840" cy="431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2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3000"/>
                            </p:stCondLst>
                            <p:childTnLst>
                              <p:par>
                                <p:cTn id="9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98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Почё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Почёта изготавливается из серебра с эмалью. Он представляет собой восьмиконечный крест, в центре которого — круглый медальон, покрытый белой эмалью, с объёмным изображением Государственного герба Российской Федерации, окаймлённого лавровым ве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Почёта награждаются граждане за высокие достижения в государственной, производственной, научно-исследовательской, социально-культурной, общественной и благотворительной деятельности, позволившей существенным образом улучшить условия жизни людей, за заслуги в подготовке высококвалифицированных кадров, воспитании подрастающего поколения, поддержании законности и право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49732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98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898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898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98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Друж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04720" y="1600200"/>
            <a:ext cx="548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Дружбы из серебра с эмалью и позолотой. Он представляет собой пятиконечную звезду, образованную пучками расходящихся золотистых лучей. В центре звезды — накладное изображение земного шара, отдельные детали которого покрыты цветной эмалью. Изображение земного шара обрамлено венком из лавровых ветвей, покрытых зеленой эмалью. На венке — красные точки. На оборотной стороне ордена — рельефная надпись: «Мир и дружба» и номер орд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Дружбы награждаются граждане за большой вклад в укрепление дружбы и сотрудничества наций и народностей, высокие достижения в развитии экономического и научного потенциала России, за особо плодотворную деятельность по сближению и взаимообогащению культур наций и народностей, укреплению мира и дружественных отношений между государст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6520" y="1654200"/>
            <a:ext cx="2446200" cy="44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98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дготовила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ченица 11 А класса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Мишукова Анна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читель ОБЖ Терехов А.О.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201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691000" cy="5229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Ле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32000" y="1341000"/>
            <a:ext cx="601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й вид, размеры и материалы, используемые для изготовления ордена, многократно менялись, как в процессе создания, так и после е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 в композицию кроме венка из колосьев, обрамлявшего центральный круглый медальон, серпа и молота, букв «СССР» также входил треугольник в нижней части ордена, символизировавший союз рабочих, трудового крестьянства и интеллигенции. Данный вариант ордена не был утвержд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Ленина является высшей наградой СССР за особо выдающиеся заслуги в революционном движении, трудовой деятельности, защите социалистического Отечества, развитии дружбы и сотрудничества между народами, укреплении мира и иные особо выдающиеся заслуги перед Советским государством и обще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Красной Зве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Красной Звезды представляет собой покрытую рубиново-красной эмалью пятиконечную звез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е ордена помещён щит с изображением фигуры красноармейца в шинели и будёновке с винтовкой в руках. По ободу щита расположена надпись «Пролетарии всех стран, соединяйтесь!», в нижней части обода — надпись «СССР». Под щитом находится изображение серпа и молота. Щит, изображение красноармейца, надпись, серп и молот, а также края звезды — оксидиров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Красной Звезды учреждён для награждения за большие заслуги в деле обороны Союза ССР как в военное, так и в мирное время, в обеспечении государственной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156360" y="1917720"/>
            <a:ext cx="241452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ден Трудового Красного Зна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421000" cy="5327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84360" y="1413000"/>
            <a:ext cx="64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Трудового Красного Знамени имеет овальную форму. Края знака выполнены в форме зубчатого колеса, верхняя часть прикрыта полотнищем знамени из рубиново-красной эмали. В центре лицевой стороны ордена — позолоченное изображение серпа и молота на фоне гидроэлектростанции и железнодорожного моста. Снизу изображение обрамлено золотистым дубовым венком в виде полукруга. На обрамляющем орден зубчатом колесе — надпись: «Пролетарии всех стран, соединяйтесь!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олотнище знамени — надпись золотыми буквами «СССР». В нижней части ордена вдоль зубчатого колеса вправо и влево расходятся пшеничные колосья, перехваченные посредине широкой лентой, на которой изображена пятиконечная звёздочка, покрытая красной эмалью. Орден изготавливается из сереб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 Трудового Красного Знамени учреждён для награждения за большие трудовые заслуги перед Советским государством и обществом в области производства, науки, культуры, литературы, искусства, народного образования, здравоохранения, в государственной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ественной и других сферах трудов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«Знак Почё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6264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ден «Знак Почёта» имеет форму овала, обрамленного по бокам дубовыми ветками. В центре его помещены фигуры рабочего и работницы, несущих симметрично расположенные слева и справа от них знамёна с надписью «Пролетарии всех стран, соединяйтесь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верхней части ордена расположена пятиконечная звезда, под которой на фоне знамён находится рельефная надпись «СССР». В нижней части ордена помещена рельефная надпись «ЗНАК ПОЧЁ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намёна и звезда покрыты рубиново-красной эмалью и окаймлены по контурам позолоченными ободками. Древки знамён и надписи позолочены, дубовые ветви, нижняя часть ордена и его общий фон оксидированы. Орден «Знак Почёта» изготовляется из сереб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ден «Знак Почёта» учрежден для награждения за высокие достижения в производстве, научно-исследовательской государственной, социально-культурной, спортивной и иной общественно полезной деятельности, а также за проявления гражданской добл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443640" y="1413000"/>
            <a:ext cx="209556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3076560" cy="3240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03280" y="836640"/>
            <a:ext cx="565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ордена Отечественной войны I степени представляет собой изображение выпуклой пятиконечной звезды, покрытой рубиново-красной эмалью на фоне золотых лучей, расходящихся в виде пятиконечной полированной звезды, концы которой размещены между концами красной звезды. В середине красной звезды — золотое изображение серпа и молота на рубиново-красной круглой пластинке, окаймлённой белым эмалевым пояском, с надписью «ОТЕЧЕСТВЕННАЯ ВОЙНА» и с золотой звёздочкой в нижней части пояска. Красная звезда и белый поясок имеют золотые ободки. На фоне лучей золотой звезды изображены концы винтовки и шашки, скрещенных позади красной звезды. Приклад винтовки обращён вправо вниз, эфес шашки — влево вниз. Изображения винтовки и шашки оксидиров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деном Отечественной войны награждаются лица рядового и начальствующего состава Красной Армии, Военно-Морского Флота, войск НКВД и партизанских отрядов, проявившие в боях за Советскую Родину храбрость, стойкость и мужество, а также военнослужащие, которые своими действиями способствовали успеху боевых операций наших вой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ден Суво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орден Суворова I степени изготавливается из платины, II степени — из золота, III степени — из серебра. У знаков второй и третьей степени эмалевая красная звёздочка в верхнем луче звезды отсутствует. Особенность награды по статуту - она вручалась за победу над численно превосходящими силами против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ом Суворова награждались командиры Красной Армии за выдающиеся успехи в деле управления войсками. Орден сохранён в наградной системе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1906560"/>
            <a:ext cx="4038480" cy="391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9:22:50Z</dcterms:created>
  <dc:creator>A</dc:creator>
  <dc:description/>
  <dc:language>en-US</dc:language>
  <cp:lastModifiedBy>учитель</cp:lastModifiedBy>
  <dcterms:modified xsi:type="dcterms:W3CDTF">2013-10-11T01:24:27Z</dcterms:modified>
  <cp:revision>7</cp:revision>
  <dc:subject/>
  <dc:title>Презентация по ОБЖ</dc:title>
</cp:coreProperties>
</file>