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5DA-9654-4FF4-804C-6ECA728A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D45-B201-4324-AA92-5C999CB3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751-C2DD-47FD-B4A2-1285F377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481-7BA2-47E6-8BFF-29F614F4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6B7-381A-4A97-8243-821C1DD0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12D-FFD5-428D-B6AE-D3EA1768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A7D-4464-4AF2-856B-243C8521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996-5E55-4E40-A451-4A57478E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2EA-5E36-433B-A2CA-4C258EDF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915-E550-4417-B839-CF61D46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C49-F202-446F-90F5-C55EF69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365-832E-4FD1-902A-401E839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CCF3-9867-42C7-9D3A-A3E8171C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Урок по окружающему миру в 4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Разработала Голикова Л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МОУ гимназия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457200"/>
            <a:ext cx="76960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 древности: далёкий и близкий.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Зевс-громоверже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39812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Бог моря Посейдо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63904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Бог подземного царства Аи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315756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Бог жизненных сил Диони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90920" y="1219320"/>
            <a:ext cx="335592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Богиня любви Афроди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3367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Гермес - бог торгов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76720" y="1143000"/>
            <a:ext cx="2301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Аполлона - покровитель искусст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3310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Гефест-кузне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305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Богиня Ге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3130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Богиня Аф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Богиня мудрости, ремёсел и справедливой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25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28800" y="1600200"/>
            <a:ext cx="5381640" cy="320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евний Египет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952880" y="685800"/>
            <a:ext cx="3861000" cy="3530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10960" y="4422600"/>
            <a:ext cx="349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ТРИБУ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ШЛЕМ, КОПЬЁ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ОВА, ЗМЕИ, ЭГИ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2680" y="5562720"/>
            <a:ext cx="492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ГИДА – щит ЗЕВ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деланный ГЕФЕС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з шкуры мифической козы Амалт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81080" y="1600200"/>
            <a:ext cx="4905360" cy="32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евний Ри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Веста - римская богиня домашнего очаг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792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Бог Мар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124080" y="1447920"/>
            <a:ext cx="27496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Близнецы Ромул и Р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53337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6172200" cy="4706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20520" y="5334120"/>
            <a:ext cx="839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Амулий приказал казнить молодую женщи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а близнецов велел бросить в реку Тиб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6019920" cy="4314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30360" y="5105520"/>
            <a:ext cx="628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Волчица - она выкорм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Ромула и 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К. БРЮЛЛОВ «ПОСЛЕДНИЙ ДЕНЬ ПОМПЕ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84872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76520" y="1523880"/>
            <a:ext cx="574812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Река Н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66294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Пирамиды Ги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6324840" cy="5059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42600" y="5105520"/>
            <a:ext cx="572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ысота 148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Усыпальница фараона Хеоп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362320" y="1676520"/>
            <a:ext cx="52578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«Большой сфинкс» в Ги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6324480" cy="474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00240" y="1981080"/>
            <a:ext cx="39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ысечен из ск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Длина – 57 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ысота – 20 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Фараон Хаф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 rot="10782000">
            <a:off x="4024080" y="1975320"/>
            <a:ext cx="4119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е исключено, что моделью для лица этого сфинк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служил фараон Хаф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2976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Саркофаг - гроб из дерева, камня и др. материалов, нередко в форме человека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2857320" cy="2146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394160" cy="405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3429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81080" y="1752480"/>
            <a:ext cx="5195880" cy="29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евняя Греция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Гора Оли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1629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3-30T17:27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